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F01-A4EA-4D04-81FD-2E8D2E88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D88-01B9-4900-8563-41C8D46F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07E-6E61-4EB9-B5AB-CB35B5BE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1AB-B6E3-4BBC-80CA-5811515B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4714-3150-4BFE-9FD2-3EBF37C6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8F7C-2E0B-40C9-B2B7-4C323F0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F33E-5C11-4EC2-BBE0-FE45B2B9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552F-4177-4984-B96A-5DE89E1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2233-AFB0-42F4-8BE8-71B8C1F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592D-BE2A-48D4-8F65-95F20DA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3717-D566-4043-8CA5-B4EEB13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906-AB40-444A-B8DA-F5F50228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3734-4ECF-4E21-B595-150B3245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A3FA-269E-4C7D-89A8-8CEEF18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082-0DBA-49F7-AE2C-7BCAB7F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70CD-E293-4C6D-BC06-531472D7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0E76-213A-4503-9652-7E4FE8F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790-595B-43D2-8FF7-EB7788A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234-C7D1-4621-AB43-1332FB68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8EA-1B6F-4EEE-AD73-B93460B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E4D-CF9D-42F0-8B38-E1C87C0F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BE7-ED47-4FD3-B18B-B1290CF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555-5A9F-40E6-AB7F-3D00BBC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06F-6FD7-4DB4-9433-932B04D4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503-D520-4229-BD03-C73998C97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EAE-2158-43D8-8780-F48958A99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issing the point – 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e failure of regulation.  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o back to basic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Jon Gra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Individual memb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20000" cy="57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7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4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4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atertight integ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atertight do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eaches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ternal pip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7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achine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aintenance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edium speed 4 stroke engines – crankshaft bearing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onnecting rod ovality and bol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ube oil testing – machinery and tailshaf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rotective devices – critical equi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re-purchase surve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ere are we now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SM stagna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SPS dangero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 lost its w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lags mainly interested in revenu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MO toothl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harterers a lost ca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83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Pap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 &amp; statutory certifica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rew certifica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SM Code recor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Hours of work / r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angu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avig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Over-reliance on electronic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One man brid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er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assage plann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68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545080" cy="57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7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ulti-cultured/ national crew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No job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consistent / inappropriate manning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creased paper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dvanced fatigu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riminalisation of the shipmas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gap between actuality and necess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lass and Fla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ACS &amp; non IA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Human asp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Manning leve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Living condi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Fatigu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Use of dri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consistency in surve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Notable exce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isk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hat are the hazards and associated risk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rew, management system, physical condition 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imple reporting with corrective actions need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afety c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5120" y="1720800"/>
            <a:ext cx="779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24000" y="1413000"/>
          <a:ext cx="8496000" cy="3335040"/>
        </p:xfrm>
        <a:graphic>
          <a:graphicData uri="http://schemas.openxmlformats.org/drawingml/2006/table">
            <a:tbl>
              <a:tblPr/>
              <a:tblGrid>
                <a:gridCol w="1834920"/>
                <a:gridCol w="2220840"/>
                <a:gridCol w="2219400"/>
                <a:gridCol w="2220840"/>
              </a:tblGrid>
              <a:tr h="77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lightly Harm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Harm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Very Harm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Highly Unlike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Trivial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Tolerable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Moderate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Unlike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Tolerable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Moderate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ubstantial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Like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Moderate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ubstantial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Intolerable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004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ack to basic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38240" y="1600200"/>
            <a:ext cx="7067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Fi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gnition sour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uel supp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ir supp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7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mergency equipment &amp; 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adequate training and dri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ack of knowledg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oor mainten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SMA 31st General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20:39:07Z</dcterms:created>
  <dc:creator>Jon Gray</dc:creator>
  <dc:description/>
  <dc:language>en-US</dc:language>
  <cp:lastModifiedBy>Jon Gray</cp:lastModifiedBy>
  <dcterms:modified xsi:type="dcterms:W3CDTF">2005-06-11T11:05:56Z</dcterms:modified>
  <cp:revision>5</cp:revision>
  <dc:subject/>
  <dc:title>Slide 1</dc:title>
</cp:coreProperties>
</file>